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413A-2F1C-4494-8AC6-04BC1F985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3235-F662-400D-AF85-1D434CAD7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E395-5C08-4BB1-BECB-540DCE85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0AE-D5CF-4C41-8924-811B26946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F0AE-268C-41DC-80D3-98697F3FD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3D2-61A4-4841-8F03-221D2F83A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8CFD-5B28-4FA2-9E64-DB51A976B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304-873F-4159-ACD0-5018FD5F4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8D24-7D79-4883-AE91-3BED7FB5C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B2E9-47A6-4A0B-9827-55F98D9A4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60E1-9062-41E0-9F6E-3378595DE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964-7573-48AC-8B35-ACF117744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0C7-AC23-4318-B99C-4035BA1FF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DBBB-B7CE-4325-9472-8DC3E9B03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E911-1C6D-46E2-870E-A16A2EA17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DC17-9717-475A-B499-1F52B086B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1E24-7097-4573-83E4-8F54D623B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46CE-6794-4A6E-911B-F36204380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EE89-022E-4808-A3A9-FF149617A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8CC3-DD22-4440-808C-91494ACE3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D5D2-CA42-403D-A541-E18344AE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80CB-205F-4C0A-A465-D77E1A1F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69BE-7D42-4660-87B3-CF36BAFD5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14E1-3C26-4DD8-9DFF-07E6E0B7A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7CE6-193E-47C1-90A3-BAABA31B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EB42-2393-4DA7-B335-0FB2F1E48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BB01-CB9F-45A3-B872-63980715B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59D-E94A-47C1-AEB6-4B39FA832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C829-6BB7-47B1-A6BD-DA8B4CC3E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309C-0AA3-4B42-9846-5C6CF13F1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BCA9-3DF8-411E-811E-01D8F8CA4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910-C14A-46A2-A83C-2434F131E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32E8-C645-4C69-B7C1-1C2CF553A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082E-3D58-4C77-8DE2-B8584550B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FDE5-63B6-460F-8448-21D89A42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B4F-AC7F-40DC-A671-438AF1247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052-0D00-4E99-8E81-524E95448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1E90-1B0E-481D-9C7B-41828F03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B333-91D8-4DCE-A477-3E37B703C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CCAC-5F95-4338-85CB-B0ABBD728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01E5-9605-4B8A-9F3B-C529C86AB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1990-CC5A-4A02-AEF3-FC68B11FE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DA6E-2342-4867-A5F6-4D0C6F64C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50B7-9EDF-4FB7-AC0F-E28853F17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470C-0A1B-4AEF-A58F-FAEFC56D7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5C4-D2A5-4D62-B2F9-BB937A86A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614B-E9B8-4F24-AFF3-FD0803F44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BF18-A532-46FC-ACF3-B99FBE858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20D5-C4E7-474F-AEDC-853FDA685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27EB-92DD-4CBC-A681-254F9B506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1C8A-C17D-4887-80F8-FAA48385C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27F7-341A-4C4D-80AC-CDE686551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771-0208-4979-85B2-6C9DDB26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EE1-D638-4A5A-A40D-49556BF5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2EC1-258A-4E65-BAF7-38439195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026D-A5DD-4F58-8DA5-33CC012F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C7EA-E445-4B90-A1CE-78C7D53C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317-DFB7-4744-A0D9-DEB1CBF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A17-81E0-4BC8-9143-11E313AD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B995-628E-424F-A91A-FF710D3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83B-7671-49EE-9E6C-6A610D74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26C-BB65-4605-857C-C50ADEFE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1DA-7CEE-4FFF-ABD1-ACF83D8B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5DF-98F2-4C9C-8FF3-F519860C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B21F-C9C5-4FD7-B43D-4474C2CB2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5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that flows from the sun through organis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 pyram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gets less than 25 centimeters of rain or snow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greens are mainly in this forest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ig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is near the equator and is very w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opical Rainfor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ly small plants can grow during a very short warm season in this very cold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undr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of same species in same area,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forests lose their leaves in the f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ciduous Forest Bi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light does not reach this deep water and animals eat dead plants that sink from above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The Deep S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ecosystem has many other animals besides fish that live on la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Ri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Water Biome cleans the water with it’s soil, plants and other tiny organis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Wetlan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ral Reefs has two specific characteristics, what are they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hallow warm waters that have sunlight that penetrates the wa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a place where river water runs into the ocean. Who am I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stu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every organism need to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pace, air,water, light, food, and a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and cattle egret have a symbiotic relationship whe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rganism is helped and the other is not affected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microorganisms inside a buffalo’s intestines feed off of the buffalo’s digestive system, both organisms are………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oth organisms are help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a parasite inside a buffalo starts to weaken the buffalo or make it sick, one organism is __________ and one is 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one organism is helped and one is hu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ce where a species liv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ype of symbiosis has lichen’s fungus and bacteria depending on each other to 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tay ali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eat waste or dead organisms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decompos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cannot make our own food, but all animals are us; what are w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consum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make our own food for energy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uffalo with the parasite inside of it’s body, with the parasite weakening it is called     _ _ _ 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ho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bit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moves through an ecosystem three different ways, which are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food chains, energy chains, or food web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le an organism ha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e population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mm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0-11-04T17:34:09Z</dcterms:modified>
  <cp:revision>59</cp:revision>
  <dc:subject/>
  <dc:title>No Slide Title</dc:title>
</cp:coreProperties>
</file>